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FAC0-AE61-4844-9D92-3359F61B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187-4750-40AF-A2AA-7289424CC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1620-47FB-45C8-A9E0-26C8E152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7B4A-D68C-4421-94E6-6F5F4D801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257A-C91E-4B13-97E4-AE786324E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B8AE-BEAC-4BD8-855F-AF562B59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A20C-826E-4470-A51D-BC63F1B0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DE63-8A4D-47D0-ABD8-17FA2087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9378-C883-4A0A-8B29-B2BC08088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A855-3344-4FC0-91C4-4601E46DF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ED9C-EAA7-4801-8FC9-4473D809B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6475-B13D-4D16-9E80-5621A1A77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766-3B39-41E1-ABB1-7F2F999E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BD0-FBB7-4EE4-A68C-E0E0B68D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0D2-B274-416B-AFD1-7D06BFB8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3EB-8351-46AA-A746-4011EEEE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FA5D-F029-4A28-8385-F50DBD5D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F588-04EB-4223-9568-742F3A66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8EAE-237C-4B71-AF15-5085A0AE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DFFA-A01E-4259-B993-0649D7B6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9DD3-3464-4846-AF3B-AA0B9E56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6E85-4C16-405B-B050-DEA7AAF2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98E6-CADC-4D17-9F0B-45371E59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064-0037-4055-ACC8-F7642281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F659-438D-4E3B-89B2-CCE04D5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939A-2598-42FD-BB4D-D9393CB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BF80-D439-4451-A8D8-7718E9BC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F10B-E1FF-4583-9A9A-8A37C135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A595-8F20-49A3-975F-6571D73A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3AE-4986-41E0-8076-80CF654C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120-F47B-4414-B5C9-20EAC20B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BF0-4859-4D49-BF86-35CE9A53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0F7-EB4F-44A2-ABBF-67F33F40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E7C-51CE-4B45-A394-8DCB4ED5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13A-DC8F-4CD9-A74E-A3314215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D6C-CDC3-4B59-A8BD-FA7C4BB5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4700-A345-4CB9-9117-2032F08099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694E-4C37-4DDE-B6E6-BEBE4E892B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Biological Productivity and Energy Flow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2209680"/>
            <a:ext cx="6248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nough Food be Produced for Afric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5" descr="heatflowimage"/>
          <p:cNvPicPr/>
          <p:nvPr/>
        </p:nvPicPr>
        <p:blipFill>
          <a:blip r:embed="rId1"/>
          <a:stretch/>
        </p:blipFill>
        <p:spPr>
          <a:xfrm>
            <a:off x="685800" y="304920"/>
            <a:ext cx="7086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Picture 5" descr="trophic_levels_individuals"/>
          <p:cNvPicPr/>
          <p:nvPr/>
        </p:nvPicPr>
        <p:blipFill>
          <a:blip r:embed="rId1"/>
          <a:stretch/>
        </p:blipFill>
        <p:spPr>
          <a:xfrm>
            <a:off x="304920" y="228600"/>
            <a:ext cx="4419360" cy="6248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Figure 1.4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4648320" y="6019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28240"/>
            <a:ext cx="62485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t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t of organic matter in an ecosystem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ough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hange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Dead Coyote"/>
          <p:cNvPicPr/>
          <p:nvPr/>
        </p:nvPicPr>
        <p:blipFill>
          <a:blip r:embed="rId1"/>
          <a:stretch/>
        </p:blipFill>
        <p:spPr>
          <a:xfrm>
            <a:off x="685800" y="2895480"/>
            <a:ext cx="4229280" cy="28958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681120" y="6084720"/>
            <a:ext cx="79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s, animals and dead are all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686440" y="2895480"/>
            <a:ext cx="2286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avalanche%20scar%20spruce%20"/>
          <p:cNvPicPr/>
          <p:nvPr/>
        </p:nvPicPr>
        <p:blipFill>
          <a:blip r:embed="rId2"/>
          <a:stretch/>
        </p:blipFill>
        <p:spPr>
          <a:xfrm>
            <a:off x="5743440" y="2895480"/>
            <a:ext cx="3019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emoautotroph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teria that 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organic compounds (like sulf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o make their own food and t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Endeavour Hot Vent Photograph"/>
          <p:cNvPicPr/>
          <p:nvPr/>
        </p:nvPicPr>
        <p:blipFill>
          <a:blip r:embed="rId1"/>
          <a:stretch/>
        </p:blipFill>
        <p:spPr>
          <a:xfrm>
            <a:off x="533520" y="380988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bacterial mats near methane seep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5029200" y="5105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ite-ish area is a bacterial m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ing on methane from beneath the ocean flo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143000" y="6491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thermal 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Energy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systems are all open to energy 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in          food chain           heat rel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not used is lost (as heat)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o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Production of Bioma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g 166 and 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ee Bozeman flipped le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23623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8769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533520" y="4114800"/>
            <a:ext cx="7924680" cy="1676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ential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an move back and forth between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ropy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easure of disorder, wasted energy - becomes more random, can be sound or light but is mostly heat, everything always moves towards entr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The laws of thermodynam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1st Law – conservation of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nergy cannot be created or destr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total amount of energy in the universe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2nd Law- entropy incr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nergy moves to a less organized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living cells are holding off the forces of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ropy b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hanneling ener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no energy conversion is 100% comple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low i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e way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highly organized useful state, to less useful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Picture: Whooping crane foodweb"/>
          <p:cNvPicPr/>
          <p:nvPr/>
        </p:nvPicPr>
        <p:blipFill>
          <a:blip r:embed="rId1"/>
          <a:stretch/>
        </p:blipFill>
        <p:spPr>
          <a:xfrm>
            <a:off x="3124080" y="990720"/>
            <a:ext cx="6019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ef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efficient are orgs at using energ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ve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of thumb 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4:15:28Z</dcterms:created>
  <dc:creator>tosborne</dc:creator>
  <dc:description/>
  <dc:language>en-US</dc:language>
  <cp:lastModifiedBy>infosys</cp:lastModifiedBy>
  <dcterms:modified xsi:type="dcterms:W3CDTF">2015-10-22T23:04:59Z</dcterms:modified>
  <cp:revision>22</cp:revision>
  <dc:subject/>
  <dc:title>Chapter 8 Biological Productivity and Energy Flow</dc:title>
</cp:coreProperties>
</file>